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507D-9D1D-4EF4-B114-8A444679F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6022-65CF-4FF7-A100-AC4DCEBA8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11F1-AD8B-42FF-BEFC-44D965701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A1F8-4EE0-4FB2-88F2-00F3D4100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E255-FAF8-4FB0-B705-74D8D5C78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7C29-51FE-4870-B950-F105E0790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4F80-11C6-441A-A296-195A6540B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FF06-E74C-4A87-B338-A4DE3B67B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80A31-7843-46E3-B44E-2D14482D9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49A8-82C3-4264-A562-533C0D1AD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94581-9570-45B4-8D43-77201B7AE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402AD-59E0-4786-9DC7-D4DBD4E5A6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EA4EA-2DCE-4257-BF26-32BADEFDD2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CCD6C-E5FA-477D-ADD2-FC51B7532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F0D19-C1CE-47B8-B7A8-5C9D1D01C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4B4FC-60D6-466C-B035-F801786CC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DD63A-FA7C-468D-AD27-E8C29E6D0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F62DB-5AC3-48B3-A9CA-231DB00AA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A9FFD-F60D-485C-80C8-FB7DED7B0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5EB5F-E12C-4B6E-BD50-09A1E8B8E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B6DC-EE25-43D2-BFEA-6CFD8EB5D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3796-3A9C-4E80-BA57-4F39F6057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ifte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Trends 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st Pract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5-1.jpg"/>
          <p:cNvPicPr/>
          <p:nvPr/>
        </p:nvPicPr>
        <p:blipFill>
          <a:blip r:embed="rId1"/>
          <a:stretch/>
        </p:blipFill>
        <p:spPr>
          <a:xfrm>
            <a:off x="2895480" y="3657600"/>
            <a:ext cx="359424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A0A1-77FD-47A9-A854-264277C60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st-in-time learn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to provide learning and training opportunities when they are needed and where they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s pace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echnologies helpful in achieving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e Training Today 15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C502-4922-4A37-901D-A28F00F07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and to shorten  the length of training programs increa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sign training programs and find creative ways to make up for reduction in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course work, job aids, on-the-job training, and using technology can accomplish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pid e-learn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-style software with easy to use interface that guide trainer through the course 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e-learning more quickly, easily and at lower price than conventional  e-learn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20AA-B8D5-4B8E-8B37-0F3C49664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Management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MS) is software that manages and tracks train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isticat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an organization to integrate and organize all their training data an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used by web-bas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and report administrative activitie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on of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291B-E767-467B-9B39-2954F8732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ery sophisticated LMS include assessments, course catalogues, communication tools, and individual learn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 of LMS is increased efficiency, reporting, tracking, and delivery of e-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use of technology for training will create increasingly more important role for L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42F7-2500-427C-968A-4B4BA4095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pproach to learning that recognizes that learning takes place throughout a person’s life and involves all aspects of one’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ian Council on Learning developed Composite Learning Index (C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Canada’s progress on  “Four Pilla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liv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E413-1576-470E-815C-CF04F2311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 recognizes lifelong learning is critical to success of individual, the community, and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benefits from better jobs and higher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benefits from higher productivity and a stronger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and development is an important contributor to lifelo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rganizations taking holistic and lifelong approach to continuous education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842B-E1AE-471F-A6D7-F60F901AB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&amp;D Best Practices: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ain Reasons for Failur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lignment with business nee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recognize non-training solu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objectives to provide direction and foc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solution is too expens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arding training as an ev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nts are not held accountable for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prepare the job environment for transf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management reinforcement and suppo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isolate the effects of trai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commitment and involvement from execu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provide feedback and use information about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016680" y="5865840"/>
            <a:ext cx="155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1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9FFC-E4A6-4D3A-98F3-F9163EB56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&amp;D Best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factors that are important for learning and transf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understand the objectives of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content is meaning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are given cues that help them learn and re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have opportunities to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receive feedback on their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have the opportunity to interact with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is properly coordinated and arrang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528000" y="5902200"/>
            <a:ext cx="27640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’s Notebook 15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D132-6D40-453E-98B2-04E4901B8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he changing role of the trainer and outsourcing training and develop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ical issues in training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rends including just-in-time learning, rapid e-learning, and learning management systems we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and development as part of larger process of lifelong learning was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of major reasons for failure of training and development and design features that facilitate learning and transf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8F28-788F-4DCF-8098-A359B861F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he changing role of training profession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the outsourcing of training &amp;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the role of ethics in training &amp;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just-in-time learning, rapid e-learning, and learning management systems (L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lifelong learning and describe the four pillars of lifelong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he main reasons why training programs fail and describe training design factors that facilitate learning and trans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7B61-0316-4ADD-8BC1-1C75322FD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’s Rol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rainer’s primary responsibilities have traditionally revolved 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T&amp;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15-2.jpg"/>
          <p:cNvPicPr/>
          <p:nvPr/>
        </p:nvPicPr>
        <p:blipFill>
          <a:blip r:embed="rId1"/>
          <a:stretch/>
        </p:blipFill>
        <p:spPr>
          <a:xfrm>
            <a:off x="4518000" y="2743200"/>
            <a:ext cx="4626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20F2-ABAC-4DB6-B1FA-C4BADF39D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’s Role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s in the Trainer’s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taff employee to strategic business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oles: (see Fig 15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rate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speci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consultant providing solutions to performanc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1D99-198E-4DC0-AE9C-DE43677ED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an external supplier to provide training and development program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% of HR and training professionals outsource at least some portion of T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nada, 52% of total training investment is outsourc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ly to outside tr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ly to tuition reimbursement to outsid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45B4-F7F9-494F-A9FA-8CB280200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to 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variety of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fficient and les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in compliance and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s in 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does not understand organization’s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in-house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vuln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341C-5EDC-4590-B0B8-6E68D1136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increase likelihood of suc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trusting relationshi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frequent client-vendo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tractual agreements clear and compreh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closely with training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ource for the right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6DA6-6C75-4164-B725-F2683089F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Ethics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systematic thinking about moral consequences of one’s actions and decisions on variou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kehold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sons inside or outside the organization who might be affected by one’s actions an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rganizations, such as the Canadian Society for Training and Development, have codes of ethics that set standards of practice and professionalism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674A-CEFB-44C2-886B-42DD8B4B9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Ethics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ical Guideline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portray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y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350160" y="5867280"/>
            <a:ext cx="27640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’s Notebook 1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15-4.jpg"/>
          <p:cNvPicPr/>
          <p:nvPr/>
        </p:nvPicPr>
        <p:blipFill>
          <a:blip r:embed="rId1"/>
          <a:stretch/>
        </p:blipFill>
        <p:spPr>
          <a:xfrm>
            <a:off x="5440320" y="2514600"/>
            <a:ext cx="37036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13:16Z</dcterms:modified>
  <cp:revision>268</cp:revision>
  <dc:subject/>
  <dc:title>Ch 15</dc:title>
</cp:coreProperties>
</file>